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3FF-B8C5-4586-9815-F36A76D1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A20-CE9A-4A6F-AFE0-6C9729B0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A40-EB9D-4D2F-B57F-F0E09B93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7D55-422B-49EE-ADB6-E65A3443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4438-D5B2-4A9F-874F-3C4C247F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60F9-4B87-4F58-8484-ADF8D8C4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1201-9BB6-4CD7-BBA3-D3643CA6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5116-3AA6-4F4C-901A-7E7D9CA0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3FD9-1AF4-455A-AFCD-87555037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4672-529A-4DF3-B695-05728271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EE82-0CA8-4800-9A1B-04FDC87D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102-8468-44A1-B5B9-42C917AA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F320-DEEC-4485-96BE-E1984511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938D-7D35-420B-B745-B5DC3287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B165-D19F-4BFC-811C-F0F36673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7DFF-1031-45D5-BFD4-FD6884CE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1336-9CEB-40EB-B260-F4DCCC53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CC5-C50B-4E37-87BC-BA72D3AF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D16-E3E2-46C4-A2B5-9014D02C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9F8-FB43-46B7-A9AF-003B66C5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AB5-925D-4A3D-AE29-DC6E84B9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F2A-50C7-4B3F-9CCE-F692A95D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8E0-E1E5-4807-B059-8D70D99C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6BE-1A5E-43BE-AD43-063A3892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E6C7-304A-42DA-AAE8-E2D7E47B29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7510-EA0A-4DC5-9EF3-E86F6E25EB1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79040" y="2223360"/>
            <a:ext cx="7585920" cy="128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hocolateBox"/>
              </a:rPr>
              <a:t>CHAPTER 6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 Period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groups 1A and 2A and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groups 3A, 4A, 5A, 6A, 7A, and 0 except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transition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inner transition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iod numb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principal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Atomic Siz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adius of atoms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tomic rad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size increases as you move down a group of the periodic table and decreases as you move form left to right across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hielding eff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se electrons on the nucleus is constant within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Ionization Energ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energy that is required to overcome the attraction of the nuclear charge and remove an electron to create a positive atom is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rst ionization energy decreases as you move down a group of the periodic table and increases as you move form left to right across a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Ionic Siz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c radi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size of an ion compared to same neutral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positive ions) are smaller because of the reduced energy level with the same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egative ions) are larger because of a reduced effective nuclear charge on oute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Electronegativ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egativ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an element is the ability of an atom to attract electrons within a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increases as you go across a period form left to right and decreases as you move down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cientists needed a way to organize and refer to the growing number of known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tegorize the elements according to similarities in their physical and chemical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lationship between atomic structure and properties of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deleev listed the elements in vertical columns in order of increasing 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ular recurrence of physical and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nk spaces left where unknown elements belonged, but able to predict their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eley determined atomic number of the atom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ranged the elements by order of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oseley"/>
          <p:cNvPicPr/>
          <p:nvPr/>
        </p:nvPicPr>
        <p:blipFill>
          <a:blip r:embed="rId1"/>
          <a:stretch/>
        </p:blipFill>
        <p:spPr>
          <a:xfrm>
            <a:off x="5410080" y="1981080"/>
            <a:ext cx="2935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Modern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040" y="2514240"/>
            <a:ext cx="773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orizontal rows of the periodic table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i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organized by increasing atomic n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ertical column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rou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families (organized by chemical proper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iodic La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when the elements are arranged in order of increasing atomic number, there is a periodic pattern in their physical and chem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plays the greatest part in determining the physical and chemical propertie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can be classified into four different categories based on their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440" y="2819520"/>
            <a:ext cx="781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oble g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re elements in which the outermost s and p sublevels are filled (group 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alled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nert g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ecause they do not partake in chemical re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Valenc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:  outermost s and p orbi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Octe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:  8 electrons in valence sh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presentative 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elements whose outermost s or p sublevels are only partially filled (group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kali met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group 1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kaline earth met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groups 2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aloge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nonmetallic elements of group 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number = number of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ition 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elements whose outermost s sublevel and the nearby d sublevel contain electrons (group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ner transition 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elements whose outermost s sublevel and the nearby f sublevel contain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0:53:59Z</dcterms:created>
  <dc:creator>Leanne Vogelsong</dc:creator>
  <dc:description/>
  <dc:language>en-US</dc:language>
  <cp:lastModifiedBy>Dawn</cp:lastModifiedBy>
  <dcterms:modified xsi:type="dcterms:W3CDTF">2011-11-18T04:34:07Z</dcterms:modified>
  <cp:revision>37</cp:revision>
  <dc:subject/>
  <dc:title>Slide 1</dc:title>
</cp:coreProperties>
</file>